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731-A886-4071-A1D0-6549FFB0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5EA-B0BB-4C9B-8A14-14C68AA7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903-E392-432A-89C6-DADB08A2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6C9-285B-450C-8339-187C3AD1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96D-CE03-4E5A-B99F-411B067A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6F8-AF8D-425C-A1C7-EDE628EC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7C2-7F33-401D-8A6D-CE04DC8B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53F-E0DE-40F8-86C9-5B3FD803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C4D-4B4B-43FB-9C44-10CB9FB0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C57-90C6-49E9-B861-05BAA8C2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912-7971-4707-A7F5-AFA4428B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08D-26D2-477C-B6CC-5235DAC0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7F7D-C9CB-4F6F-B2B3-E3D7C877F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aptioned Photos of Blanket Constru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y J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52480" y="57913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nd The finished second time around. (The blanket is on a cha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5120" y="61722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51814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is part of the blanket was done by Mrs. McFadden while showing me how to croch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5120" y="617220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is next bit is hard to see due to poor photography skills, but it shows the overly-tight stitches I made when I started crocheting on my 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61722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63244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ese are some of my better made stitches once I figured out how to crochet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5120" y="61722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5791320"/>
            <a:ext cx="556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59436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y stitches rounding a corner with a book in the backgr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52480" y="57913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luury, but showing the end of the first time around the blanket. Halfway d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57913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One time around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480" y="57913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f it weren’t so blurry it would show some of my two-layer stit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57913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y blanket, held down with some boxes and a book because it has a tendency to curl when laid out fully. It is finally done th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6:56:51Z</dcterms:created>
  <dc:creator> </dc:creator>
  <dc:description/>
  <dc:language>en-US</dc:language>
  <cp:lastModifiedBy> </cp:lastModifiedBy>
  <dcterms:modified xsi:type="dcterms:W3CDTF">2009-02-15T16:59:53Z</dcterms:modified>
  <cp:revision>3</cp:revision>
  <dc:subject/>
  <dc:title>Captioned Photos of Blanket Construction.</dc:title>
</cp:coreProperties>
</file>